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C52-4631-410E-ACE1-70507BF8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E47-EDD5-4310-AD22-4D2239B4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B31-44BF-411B-B8BB-4C50C5CA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038-0F5F-4027-A03E-77282B3D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56B7-619F-4E8F-806C-FD847417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F005-7DAF-448B-8C15-787D84C1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8F57-1206-4C35-BEFA-F325A62A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1436-CC6B-4327-AF4F-37E974FE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25B7-7D6F-4A55-BD30-32804405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4760-25DC-4239-8C0F-75117068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B184-C261-4C32-96A7-6CAAD12F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1E1-986E-409F-90DD-E2979C6F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0D94-0191-47E6-A175-F0C7A90F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B678-6701-4C7C-BA1A-009BA7C9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C5B7-2E18-4844-B2A0-6A8F5D30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11B5-338D-4569-9A62-09C132CC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2A93-931E-42AD-B0D7-924A1648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CD5-37AC-460F-BAFB-5F88536B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D7C-2C0C-4023-97A1-A09416FF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F7AC-3185-4038-ABC4-F1AE16B7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B19-7734-4C8F-83D8-C7BB15F2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247-18CA-4830-82E9-D1062CD1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A51-B8B7-44DE-8C2A-C6DF54A6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BA1-29FD-4936-AFE1-9D2D099C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1292-2544-4CBD-A108-C4BCDB739E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B78A-2391-457B-8C09-BD53DB9C6D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A Low Power SRAM Desig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90720" y="34290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roline Andrew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obert Hunt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ousef Shakhshe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cember 6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, 2007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Resul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828800" y="1676520"/>
          <a:ext cx="6400800" cy="4020840"/>
        </p:xfrm>
        <a:graphic>
          <a:graphicData uri="http://schemas.openxmlformats.org/drawingml/2006/table">
            <a:tbl>
              <a:tblPr/>
              <a:tblGrid>
                <a:gridCol w="2203560"/>
                <a:gridCol w="419724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388006  W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 ns * μ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 Cell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39.04 μ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Effective: 182.03 μ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6099200 μ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ad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.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e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.56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2.8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a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3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e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4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3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Simul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6238800" cy="3915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65040" y="31608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Read and wri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9640" y="4038480"/>
            <a:ext cx="268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ense amp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fter 0.5 V drop in 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utput latch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register on rising e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f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Simulations cont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55120" y="2057400"/>
            <a:ext cx="7279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mory Block simulated at all voltages, temperatures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cess co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V(4.5, 5, 5.5) T(0C, 27C, 50C) P(TT, FF, SS, SF, 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one for 1bit Read and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52080" y="4241880"/>
            <a:ext cx="71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mory Block also simulated under 32-bit Read and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84120" y="2133720"/>
            <a:ext cx="7383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mory blocked successfully designed and simulated u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variety of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ower consumption is minimized with enable signals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mory perip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rea is minimized with overlapping bitcells and se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mpl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urther development could result in more power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2440" y="2286000"/>
            <a:ext cx="733896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evelop a functioning SRAM memory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mplement design features to reduce overall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esign a robust memory device that operates ove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arge range of temperatures, voltages, and process co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Our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9040" y="1595520"/>
            <a:ext cx="523728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MB memory array divided into 16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ck contains 256 x 256 bit cell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2666880"/>
            <a:ext cx="4957560" cy="3808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38080" y="2819520"/>
            <a:ext cx="335304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6-input multiplexer used to select correct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819520"/>
            <a:ext cx="762120" cy="685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705360" y="1905120"/>
            <a:ext cx="228600" cy="838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44960" y="151920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mory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3200400"/>
            <a:ext cx="533160" cy="6858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09880" y="3809880"/>
            <a:ext cx="914400" cy="6098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8280" y="419112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ock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5638680"/>
            <a:ext cx="838080" cy="6098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657600" y="6019560"/>
            <a:ext cx="2362320" cy="75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15720" y="58672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utput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sign cont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4560" y="1523880"/>
            <a:ext cx="286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yout for one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809880"/>
            <a:ext cx="388620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mory cells acce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column and row de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rs built with hierarchical desig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po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9880" y="1295280"/>
            <a:ext cx="533412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tcell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9880" y="1555920"/>
            <a:ext cx="4857840" cy="4341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63680" y="2241720"/>
            <a:ext cx="26953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MOS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ized larger than P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MOS W=1.5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MOS W=4.05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L NMOS W=1.8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Special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1523880"/>
            <a:ext cx="68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able signals are distributed throughout the memory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8560" y="2814480"/>
            <a:ext cx="5000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 for a considerable reduction in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y one memory block is active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se amplifiers enabled only during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52200" y="5405400"/>
            <a:ext cx="71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read or write are not asserted, entire periphery is dis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Features cont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2362320"/>
          <a:ext cx="4419360" cy="2538360"/>
        </p:xfrm>
        <a:graphic>
          <a:graphicData uri="http://schemas.openxmlformats.org/drawingml/2006/table">
            <a:tbl>
              <a:tblPr/>
              <a:tblGrid>
                <a:gridCol w="1084320"/>
                <a:gridCol w="917280"/>
                <a:gridCol w="916200"/>
                <a:gridCol w="750960"/>
                <a:gridCol w="750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 P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ff P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ty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ty 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nse A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174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4n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8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6 Deco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6 n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 Deco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906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.54 n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 Deco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062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78 n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x G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.2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p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M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0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.6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-M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9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082520" y="1595520"/>
            <a:ext cx="77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wer consumption of active components versus inactiv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65920" y="2664000"/>
            <a:ext cx="317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active power is much less th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tive power for all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ipheral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4200" y="5376960"/>
            <a:ext cx="73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: Inactive devices are consuming much lower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power, preventing wasteful consumption when not 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Layout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19720" y="1143000"/>
            <a:ext cx="4405320" cy="336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19720" y="990720"/>
            <a:ext cx="4495680" cy="1676160"/>
          </a:xfrm>
          <a:prstGeom prst="ellipse">
            <a:avLst/>
          </a:prstGeom>
          <a:noFill/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1752480"/>
            <a:ext cx="838440" cy="1526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 6T bi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362320"/>
            <a:ext cx="411480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mory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t cells are tiled and overlap on all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a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239.04 μ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ffective: 182.03 μ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se amps snap directly onto bit cell array without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666880"/>
            <a:ext cx="4419720" cy="19051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629400" y="464796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4680" y="53290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o Sense 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Layout cont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5176800" cy="4336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90720" y="4343400"/>
            <a:ext cx="2895480" cy="9907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5334120"/>
            <a:ext cx="2895840" cy="1295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523880" y="1981080"/>
            <a:ext cx="1905120" cy="990720"/>
          </a:xfrm>
          <a:prstGeom prst="line">
            <a:avLst/>
          </a:prstGeom>
          <a:ln w="28440">
            <a:solidFill>
              <a:srgbClr val="ff99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828800"/>
            <a:ext cx="1066680" cy="281952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038120" y="4114800"/>
            <a:ext cx="205740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81120" y="5715000"/>
            <a:ext cx="121932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6520" y="548172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 to 1 Multip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4560" y="38815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mission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21320" y="17478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 lin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1:17:05Z</dcterms:created>
  <dc:creator>Robert Hunter</dc:creator>
  <dc:description/>
  <dc:language>en-US</dc:language>
  <cp:lastModifiedBy>ITC Labs and Classrooms</cp:lastModifiedBy>
  <dcterms:modified xsi:type="dcterms:W3CDTF">2007-12-05T20:10:59Z</dcterms:modified>
  <cp:revision>56</cp:revision>
  <dc:subject/>
  <dc:title>A Low Power SRAM Design</dc:title>
</cp:coreProperties>
</file>